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2C23-6504-48F7-851C-4B3D60EF5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8DA4-A971-4D0E-8081-521004382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D4AF-D917-4F88-8872-A9F3FAEF1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DC25-0499-4317-B4BC-21B5D75C1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DCF24-8078-455B-8B0F-71C3D0D06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9C54B-FCF9-40BA-9FCB-E075B6A95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CDB94-9593-4071-ABEB-702B2F0D4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76044-9818-4F96-8165-C2168CE3A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424C7-BBBB-472C-A2D3-92CE0A9B3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D9CB3-F590-45E5-8BCC-9568FD4D9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E3081-65C0-4076-8FE4-7EB97013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673B-B6F0-465F-9FA6-FEDFFB3CC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F5112-7E5C-409B-B2EB-1CB45974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A6166-6C0F-44C9-ABAE-72225632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EEA5F-197A-42BE-836C-3AFB3187C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AF486-EBDF-48D4-B70E-6DF087450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4E0A4-E513-4D2D-89C5-D9140DFE2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9F7D-784C-4124-B449-E378E526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3749-4D43-4A79-A9A4-0739FCB69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85D4-E16B-42E9-A2D2-05C45B88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E53F-8A5F-422E-9456-A3F588C8C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74E8-10EB-44C6-BB3A-6D567928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423A-EB80-4402-8801-0C61D683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71C5-C1F7-4C43-88A7-EC859488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50FD0-BBF7-43A8-A2BB-F8EEB2AD041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5B89E-1B33-41D2-A72F-482CFB3AA7A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575080" y="1219320"/>
            <a:ext cx="4435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45720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s Comi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876920" y="1219320"/>
            <a:ext cx="3089160" cy="42670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52280" y="1668600"/>
            <a:ext cx="1067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2133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y Ben Sturg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l desayun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 Gusta Come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ela la en la vida vis cer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448920" cy="7066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447920" y="1522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desayu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2438280"/>
            <a:ext cx="38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24382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Me Gusta co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33520" y="3124080"/>
            <a:ext cx="3581280" cy="2578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80880" y="5943600"/>
            <a:ext cx="403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ane La en la vida vis c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7105680" y="0"/>
            <a:ext cx="2038320" cy="2800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629400" y="30481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Jugo de guayab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4343400" y="-152280"/>
            <a:ext cx="2400480" cy="22478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343400" y="2286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La clementi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594360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Bagel con mantequila de ma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5486400" y="3581280"/>
            <a:ext cx="3429000" cy="2433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1371600" y="685800"/>
            <a:ext cx="1962000" cy="13082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143000" y="20574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3300"/>
                </a:solidFill>
                <a:latin typeface="Tahoma"/>
              </a:rPr>
              <a:t>pan francé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85800" y="10666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El almuerz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80880" y="1752480"/>
            <a:ext cx="2614680" cy="21830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09480" y="403848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66ff"/>
                </a:solidFill>
                <a:latin typeface="Arial"/>
              </a:rPr>
              <a:t>tocino y queso quesadil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16002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e gusta com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57800" y="32767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66ff"/>
                </a:solidFill>
                <a:latin typeface="Arial"/>
              </a:rPr>
              <a:t>chocolate con le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7010280" y="228600"/>
            <a:ext cx="1847880" cy="18478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086600" y="22096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Sand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61722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66ff"/>
                </a:solidFill>
                <a:latin typeface="Arial"/>
              </a:rPr>
              <a:t>rojo manzana delicio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1523880" y="4800600"/>
            <a:ext cx="1447920" cy="1415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5257800" y="3809880"/>
            <a:ext cx="2400480" cy="25815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657600" y="304812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macarrones con que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5181480" y="1523880"/>
            <a:ext cx="103680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8380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a Cen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3191040" cy="21430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4191120"/>
            <a:ext cx="36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4191120"/>
            <a:ext cx="3429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411480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queso para piz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324480" y="304920"/>
            <a:ext cx="2586240" cy="25858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019920" y="304812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bastones de mozzarella con salsa miel mosta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19320" y="609588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os dedos de pol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1143000" y="4572000"/>
            <a:ext cx="2286000" cy="15192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3733920"/>
            <a:ext cx="1306440" cy="15951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6095880" y="3886200"/>
            <a:ext cx="1486080" cy="13352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791320" y="54100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té helado de man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09880" y="33526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batata fri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657600" y="1523880"/>
            <a:ext cx="2133720" cy="14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80880" y="14479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 Postre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49528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ousse de chocol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95880" y="53341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orbete de sand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533412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barras de co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733920" y="22096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 raíz del flotador de cervez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2857680" cy="27241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429000" y="3048120"/>
            <a:ext cx="1738440" cy="2319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5638680" y="2971800"/>
            <a:ext cx="2657520" cy="19908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5181480" y="228600"/>
            <a:ext cx="211464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2:07:42Z</dcterms:created>
  <dc:creator>sturgisben</dc:creator>
  <dc:description/>
  <dc:language>en-US</dc:language>
  <cp:lastModifiedBy>sturgisben</cp:lastModifiedBy>
  <dcterms:modified xsi:type="dcterms:W3CDTF">2012-04-05T14:09:23Z</dcterms:modified>
  <cp:revision>4</cp:revision>
  <dc:subject/>
  <dc:title>Slide 1</dc:title>
</cp:coreProperties>
</file>